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6CEE-EBFB-4625-83E5-D8DDB43C8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5349-4186-4143-BDAE-58CE2AF6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7EB3-A6DC-4D7F-AB3F-BB4600901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A34F-A6B9-4E82-B2BD-DDBC9D264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9B6E-7D99-44BA-B3FB-E9B334C4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8544-C354-4786-8D99-20E51D7B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5164-8F81-4BA7-BEBA-E9333D27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8B88-848E-43D5-8EE6-DC993D80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8487-EDD5-4864-A1AD-5F6A5590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F6F4-E853-4627-96D7-D2EAEBF2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20BC-51A7-4337-807C-1D4F106B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CD93-CE5A-49E1-B32D-3DFF7194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EF06-7F1D-420A-BD8C-06F5BCF49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986440" y="0"/>
            <a:ext cx="3157560" cy="2108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136440" y="13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6000" y="222120"/>
            <a:ext cx="7503840" cy="149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broken eggs …?</a:t>
            </a:r>
            <a:endParaRPr b="0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254160" y="1287720"/>
            <a:ext cx="8889840" cy="51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went to the market with a basket of egg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sold half my eggs plus half an egg to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sold half of my remaining eggs plus half an egg to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sold half of my remaining eggs plus half an egg to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ar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sold half of my remaining eggs plus half an egg to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sold half of my remaining eggs plus half an egg to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was left with just one eg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e the above transactions possible without breaking egg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ow many eggs did I start wit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2T07:18:31Z</dcterms:created>
  <dc:creator>Trifon</dc:creator>
  <dc:description/>
  <dc:language>en-US</dc:language>
  <cp:lastModifiedBy>Trifon</cp:lastModifiedBy>
  <dcterms:modified xsi:type="dcterms:W3CDTF">2003-11-02T07:18:31Z</dcterms:modified>
  <cp:revision>1</cp:revision>
  <dc:subject/>
  <dc:title>Slide 1</dc:title>
</cp:coreProperties>
</file>